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C5F-1644-4A5D-8181-C1EF2497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777-DC99-4CDE-8C9E-33AEED4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865-7959-4862-B564-FCB2626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A17-F0D6-4325-AD2B-B7F2D46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0E4-D851-4D0D-AA5E-F77BBE6E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727-BA10-466D-9F82-AA30F170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9D0-6118-4056-A993-F918DB87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073-3889-438B-9D10-7D6F663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0EF-8956-4EB6-82A5-3BCF61B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E8D-2713-41D6-B1E5-2F446CD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B83-C11D-46A8-A420-2D157F37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0E8-B5F4-4DA3-8134-C3132AD0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FDC2-A612-460C-A99E-A1D13B7B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71F6-3016-46C4-9A73-823FDC4D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B3F-76E1-4351-9665-126200C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53D0-85A9-4BBA-B0A3-4C74BBFE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F31-7DCF-4C45-9418-FE1E969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539E-C820-43B4-A9BF-CAF4017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B4ED-4135-49B8-9053-BAC742E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7B1-0332-4B1A-A6CC-30C6125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7A1F-F642-49FB-A3D4-655D707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ABB0-0256-48D1-A2EB-FCB6BC79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10AB-77A5-4E7D-9640-B899D588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831A-5B44-46DD-B657-B735E4B6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5057-ED0F-4EC3-BF20-705D23A14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29B-D22A-4F7B-9BA0-1964606A0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 Same Side Corner Rectangle 2"/>
          <p:cNvSpPr/>
          <p:nvPr/>
        </p:nvSpPr>
        <p:spPr>
          <a:xfrm rot="5400000">
            <a:off x="2302200" y="1059480"/>
            <a:ext cx="2449800" cy="6896160"/>
          </a:xfrm>
          <a:custGeom>
            <a:avLst/>
            <a:gdLst/>
            <a:ahLst/>
            <a:rect l="l" t="t" r="r" b="b"/>
            <a:pathLst>
              <a:path w="2449513" h="6896100">
                <a:moveTo>
                  <a:pt x="408260" y="0"/>
                </a:moveTo>
                <a:lnTo>
                  <a:pt x="2041253" y="0"/>
                </a:lnTo>
                <a:cubicBezTo>
                  <a:pt x="2266729" y="0"/>
                  <a:pt x="2449513" y="182784"/>
                  <a:pt x="2449513" y="408260"/>
                </a:cubicBezTo>
                <a:lnTo>
                  <a:pt x="2449513" y="6896100"/>
                </a:lnTo>
                <a:lnTo>
                  <a:pt x="2449513" y="6896100"/>
                </a:lnTo>
                <a:lnTo>
                  <a:pt x="0" y="6896100"/>
                </a:lnTo>
                <a:lnTo>
                  <a:pt x="0" y="6896100"/>
                </a:lnTo>
                <a:lnTo>
                  <a:pt x="0" y="408260"/>
                </a:lnTo>
                <a:cubicBezTo>
                  <a:pt x="0" y="182784"/>
                  <a:pt x="182784" y="0"/>
                  <a:pt x="408260" y="0"/>
                </a:cubicBezTo>
                <a:close/>
              </a:path>
            </a:pathLst>
          </a:custGeom>
          <a:solidFill>
            <a:srgbClr val="17375e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4000" y="58467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ГБУЗ МО МОНИКИ им. М.Ф. Владимирского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Хромова Л.Э., заместитель декана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79200" y="3178080"/>
            <a:ext cx="672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algun Gothic"/>
              </a:rPr>
              <a:t>Интеграция профессиональных 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algun Gothic"/>
              </a:rPr>
              <a:t>стандартов в систему 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algun Gothic"/>
              </a:rPr>
              <a:t>подготовки и аккредитации 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algun Gothic"/>
              </a:rPr>
              <a:t>медицинских работников 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algun Gothic"/>
              </a:rPr>
              <a:t>Московской области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74600" y="195120"/>
            <a:ext cx="89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Malgun Gothic"/>
                <a:ea typeface="Calibri"/>
              </a:rPr>
              <a:t>Трансформация профессионального профиля в образовательный профиль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689040" y="628560"/>
            <a:ext cx="71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Профессиональный стандарт Врач-судебно-медицинский эксперт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212840" y="1111320"/>
            <a:ext cx="75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Calibri"/>
                <a:ea typeface="Calibri"/>
              </a:rPr>
              <a:t>Производство судебно-медицинской экспертизы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12800" y="1546200"/>
            <a:ext cx="8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Malgun Gothic"/>
                <a:ea typeface="Calibri"/>
              </a:rPr>
              <a:t>ТФ 1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1362240" y="1554120"/>
            <a:ext cx="74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Malgun Gothic"/>
                <a:ea typeface="Arial"/>
              </a:rPr>
              <a:t>Производство судебно-медицинской экспертизы (исследования) трупа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628560" y="22082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Трудовые действ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2" name="Прямоугольник 13"/>
          <p:cNvSpPr/>
          <p:nvPr/>
        </p:nvSpPr>
        <p:spPr>
          <a:xfrm>
            <a:off x="236520" y="2546280"/>
            <a:ext cx="378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Arial"/>
              </a:rPr>
              <a:t>Участие в осмотре трупа на месте его обнаружения (происшествия)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3641760" y="2216160"/>
            <a:ext cx="9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4" name="Правая фигурная скобка 21"/>
          <p:cNvSpPr/>
          <p:nvPr/>
        </p:nvSpPr>
        <p:spPr>
          <a:xfrm rot="16200000">
            <a:off x="1542960" y="696600"/>
            <a:ext cx="498600" cy="3111480"/>
          </a:xfrm>
          <a:custGeom>
            <a:avLst/>
            <a:gdLst>
              <a:gd name="textAreaLeft" fmla="*/ 0 w 498600"/>
              <a:gd name="textAreaRight" fmla="*/ 180000 w 498600"/>
              <a:gd name="textAreaTop" fmla="*/ 12960 h 3111480"/>
              <a:gd name="textAreaBottom" fmla="*/ 3098520 h 31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16200" y="10800"/>
                  <a:pt x="21600" y="10800"/>
                </a:cubicBezTo>
                <a:cubicBezTo>
                  <a:pt x="162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4842000" y="222264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Профессиональные компетенции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7377120" y="221616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Учебный модуль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Стрелка вправо 31"/>
          <p:cNvSpPr/>
          <p:nvPr/>
        </p:nvSpPr>
        <p:spPr>
          <a:xfrm>
            <a:off x="4533840" y="2496960"/>
            <a:ext cx="262080" cy="3803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Прямоугольник 28"/>
          <p:cNvSpPr/>
          <p:nvPr/>
        </p:nvSpPr>
        <p:spPr>
          <a:xfrm>
            <a:off x="292320" y="10904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  <a:ea typeface="Calibri"/>
              </a:rPr>
              <a:t>ОТФ А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39760" y="3025800"/>
            <a:ext cx="346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Arial"/>
              </a:rPr>
              <a:t>Изучение документов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0" name="Прямоугольник 1"/>
          <p:cNvSpPr/>
          <p:nvPr/>
        </p:nvSpPr>
        <p:spPr>
          <a:xfrm>
            <a:off x="239760" y="342108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Times New Roman"/>
              </a:rPr>
              <a:t>Планирование, определение порядка, объема судебно-медицинской экспертизы трупа и его частей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Прямоугольник 26"/>
          <p:cNvSpPr/>
          <p:nvPr/>
        </p:nvSpPr>
        <p:spPr>
          <a:xfrm>
            <a:off x="201600" y="424800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Times New Roman"/>
              </a:rPr>
              <a:t>Проведение наружного исследования трупа и его частей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Прямоугольник 28"/>
          <p:cNvSpPr/>
          <p:nvPr/>
        </p:nvSpPr>
        <p:spPr>
          <a:xfrm>
            <a:off x="236520" y="4905360"/>
            <a:ext cx="33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Times New Roman"/>
              </a:rPr>
              <a:t>Проведение внутреннего исследования трупа и его частей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201600" y="5648400"/>
            <a:ext cx="37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Times New Roman"/>
              </a:rPr>
              <a:t>Изъятие и направление объектов от трупа и его частей для дополнительного инструментального и (или) лабораторного исследования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Правая фигурная скобка 30"/>
          <p:cNvSpPr/>
          <p:nvPr/>
        </p:nvSpPr>
        <p:spPr>
          <a:xfrm rot="16200000">
            <a:off x="3840840" y="1792800"/>
            <a:ext cx="527040" cy="916200"/>
          </a:xfrm>
          <a:custGeom>
            <a:avLst/>
            <a:gdLst>
              <a:gd name="textAreaLeft" fmla="*/ 0 w 527040"/>
              <a:gd name="textAreaRight" fmla="*/ 190440 w 527040"/>
              <a:gd name="textAreaTop" fmla="*/ 13680 h 916200"/>
              <a:gd name="textAreaBottom" fmla="*/ 90252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8"/>
                  <a:pt x="10800" y="1036"/>
                </a:cubicBezTo>
                <a:lnTo>
                  <a:pt x="10800" y="9764"/>
                </a:lnTo>
                <a:cubicBezTo>
                  <a:pt x="10800" y="10282"/>
                  <a:pt x="16200" y="10800"/>
                  <a:pt x="21600" y="10800"/>
                </a:cubicBezTo>
                <a:cubicBezTo>
                  <a:pt x="16200" y="10800"/>
                  <a:pt x="10800" y="11318"/>
                  <a:pt x="10800" y="11836"/>
                </a:cubicBezTo>
                <a:lnTo>
                  <a:pt x="10800" y="20564"/>
                </a:lnTo>
                <a:cubicBezTo>
                  <a:pt x="10800" y="210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Правая фигурная скобка 32"/>
          <p:cNvSpPr/>
          <p:nvPr/>
        </p:nvSpPr>
        <p:spPr>
          <a:xfrm rot="16200000">
            <a:off x="5688720" y="1167120"/>
            <a:ext cx="530280" cy="2125800"/>
          </a:xfrm>
          <a:custGeom>
            <a:avLst/>
            <a:gdLst>
              <a:gd name="textAreaLeft" fmla="*/ 0 w 530280"/>
              <a:gd name="textAreaRight" fmla="*/ 191520 w 530280"/>
              <a:gd name="textAreaTop" fmla="*/ 13680 h 2125800"/>
              <a:gd name="textAreaBottom" fmla="*/ 2112120 h 21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6" name="Правая фигурная скобка 33"/>
          <p:cNvSpPr/>
          <p:nvPr/>
        </p:nvSpPr>
        <p:spPr>
          <a:xfrm rot="16200000">
            <a:off x="7884000" y="1613520"/>
            <a:ext cx="527040" cy="1274760"/>
          </a:xfrm>
          <a:custGeom>
            <a:avLst/>
            <a:gdLst>
              <a:gd name="textAreaLeft" fmla="*/ 0 w 527040"/>
              <a:gd name="textAreaRight" fmla="*/ 190440 w 527040"/>
              <a:gd name="textAreaTop" fmla="*/ 13680 h 1274760"/>
              <a:gd name="textAreaBottom" fmla="*/ 126108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2"/>
                  <a:pt x="10800" y="744"/>
                </a:cubicBezTo>
                <a:lnTo>
                  <a:pt x="10800" y="10056"/>
                </a:lnTo>
                <a:cubicBezTo>
                  <a:pt x="10800" y="10428"/>
                  <a:pt x="16200" y="10800"/>
                  <a:pt x="21600" y="10800"/>
                </a:cubicBezTo>
                <a:cubicBezTo>
                  <a:pt x="16200" y="10800"/>
                  <a:pt x="10800" y="11172"/>
                  <a:pt x="10800" y="11544"/>
                </a:cubicBezTo>
                <a:lnTo>
                  <a:pt x="10800" y="20856"/>
                </a:lnTo>
                <a:cubicBezTo>
                  <a:pt x="10800" y="212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884840" y="4757760"/>
            <a:ext cx="2079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</a:rPr>
              <a:t>ПК 2. Способен производить судебно-медицинскую экспертизу трупа и его частей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4884840" y="2919240"/>
            <a:ext cx="2313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algun Gothic"/>
                <a:ea typeface="Times New Roman"/>
              </a:rPr>
              <a:t>ПК 1. Способен проводить осмотр трупа на месте его обнаружения с повреждениями различного происхождения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7377120" y="3463920"/>
            <a:ext cx="172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algun Gothic"/>
                <a:ea typeface="Calibri"/>
              </a:rPr>
              <a:t>Производство судебно-медицинской экспертизы </a:t>
            </a:r>
            <a:r>
              <a:rPr b="0" lang="ru-RU" sz="1600" spc="-1" strike="noStrike">
                <a:solidFill>
                  <a:srgbClr val="000000"/>
                </a:solidFill>
                <a:latin typeface="Malgun Gothic"/>
              </a:rPr>
              <a:t>(исследования) трупа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0" name="Стрелка вправо 34"/>
          <p:cNvSpPr/>
          <p:nvPr/>
        </p:nvSpPr>
        <p:spPr>
          <a:xfrm>
            <a:off x="7085160" y="2496960"/>
            <a:ext cx="261720" cy="3803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rcRect l="9598" t="25394" r="29522" b="15546"/>
          <a:stretch/>
        </p:blipFill>
        <p:spPr>
          <a:xfrm>
            <a:off x="324000" y="404640"/>
            <a:ext cx="4824360" cy="263232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5"/>
          <p:cNvSpPr/>
          <p:nvPr/>
        </p:nvSpPr>
        <p:spPr>
          <a:xfrm>
            <a:off x="1332000" y="3284640"/>
            <a:ext cx="6318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Malgun Gothic"/>
                <a:ea typeface="Times New Roman"/>
              </a:rPr>
              <a:t>ПОРЯДОК РАЗРАБОТКИ В ГБУЗ МО МОНИКИ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Malgun Gothic"/>
                <a:ea typeface="Times New Roman"/>
              </a:rPr>
              <a:t>им. М.Ф. ВЛАДИМИРСКОГО ДОПОЛНИТЕЛЬНЫХ ПРОФЕССИОНАЛЬНЫХ ПРОГРАММ С УЧЕТОМ ТРЕБОВАНИЙ СООТВЕТСТВУЩИХ ПРОФЕССИОНАЛЬНЫХ СТАНДАРТОВ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8"/>
          <p:cNvSpPr/>
          <p:nvPr/>
        </p:nvSpPr>
        <p:spPr>
          <a:xfrm>
            <a:off x="5834160" y="2427120"/>
            <a:ext cx="45072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4" name="Прямоугольник 19"/>
          <p:cNvSpPr/>
          <p:nvPr/>
        </p:nvSpPr>
        <p:spPr>
          <a:xfrm flipH="1">
            <a:off x="7560720" y="2798640"/>
            <a:ext cx="122040" cy="606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5" name="Прямоугольник 17"/>
          <p:cNvSpPr/>
          <p:nvPr/>
        </p:nvSpPr>
        <p:spPr>
          <a:xfrm flipH="1">
            <a:off x="4446720" y="2798640"/>
            <a:ext cx="126720" cy="243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6" name="Прямоугольник 16"/>
          <p:cNvSpPr/>
          <p:nvPr/>
        </p:nvSpPr>
        <p:spPr>
          <a:xfrm>
            <a:off x="2835360" y="5438880"/>
            <a:ext cx="450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Прямоугольник 15"/>
          <p:cNvSpPr/>
          <p:nvPr/>
        </p:nvSpPr>
        <p:spPr>
          <a:xfrm flipH="1">
            <a:off x="1294560" y="2565360"/>
            <a:ext cx="135000" cy="32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8" name="Прямоугольник 4"/>
          <p:cNvSpPr/>
          <p:nvPr/>
        </p:nvSpPr>
        <p:spPr>
          <a:xfrm>
            <a:off x="190440" y="17136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algun Gothic"/>
              </a:rPr>
              <a:t>Алгоритм использования профессиональных стандартов при разработке дополнительных профессиональных программ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9" name="Скругленный прямоугольник 5"/>
          <p:cNvSpPr/>
          <p:nvPr/>
        </p:nvSpPr>
        <p:spPr>
          <a:xfrm>
            <a:off x="193680" y="1709640"/>
            <a:ext cx="2529000" cy="1144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Шаг 1.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Создание рабочей группы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0" name="Скругленный прямоугольник 6"/>
          <p:cNvSpPr/>
          <p:nvPr/>
        </p:nvSpPr>
        <p:spPr>
          <a:xfrm>
            <a:off x="190440" y="3271680"/>
            <a:ext cx="2517840" cy="949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Шаг 2.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Выбор ПС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1" name="Скругленный прямоугольник 7"/>
          <p:cNvSpPr/>
          <p:nvPr/>
        </p:nvSpPr>
        <p:spPr>
          <a:xfrm>
            <a:off x="158760" y="4633920"/>
            <a:ext cx="2668680" cy="145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Шаг 3. 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Сопоставление ФГОС и ПС (при разработке программ ПП)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Скругленный прямоугольник 8"/>
          <p:cNvSpPr/>
          <p:nvPr/>
        </p:nvSpPr>
        <p:spPr>
          <a:xfrm>
            <a:off x="3259080" y="4834080"/>
            <a:ext cx="2719440" cy="1353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Шаг 4.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Формирование результатов освоения программы с учетом ПС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Скругленный прямоугольник 9"/>
          <p:cNvSpPr/>
          <p:nvPr/>
        </p:nvSpPr>
        <p:spPr>
          <a:xfrm>
            <a:off x="3252960" y="3271680"/>
            <a:ext cx="2684160" cy="1292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Шаг 5.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Разработка процедур и средств оценки результатов обучения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4" name="Скругленный прямоугольник 10"/>
          <p:cNvSpPr/>
          <p:nvPr/>
        </p:nvSpPr>
        <p:spPr>
          <a:xfrm>
            <a:off x="3227400" y="1719360"/>
            <a:ext cx="266076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Шаг 6.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Формирование структуры и содержания программы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5" name="Скругленный прямоугольник 11"/>
          <p:cNvSpPr/>
          <p:nvPr/>
        </p:nvSpPr>
        <p:spPr>
          <a:xfrm>
            <a:off x="6286680" y="1709640"/>
            <a:ext cx="2660400" cy="1144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Шаг 7.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Разработка учебного плана и календарного графика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Скругленный прямоугольник 12"/>
          <p:cNvSpPr/>
          <p:nvPr/>
        </p:nvSpPr>
        <p:spPr>
          <a:xfrm>
            <a:off x="6232680" y="3289320"/>
            <a:ext cx="2858760" cy="130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algun Gothic"/>
              </a:rPr>
              <a:t>Шаг 8.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algun Gothic"/>
              </a:rPr>
              <a:t>Экспертиза образовательной программы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/>
          <p:cNvSpPr/>
          <p:nvPr/>
        </p:nvSpPr>
        <p:spPr>
          <a:xfrm>
            <a:off x="668160" y="1231920"/>
            <a:ext cx="7920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343080" algn="just">
              <a:lnSpc>
                <a:spcPct val="107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Malgun Gothic"/>
                <a:ea typeface="Times New Roman"/>
              </a:rPr>
              <a:t>Составы рабочих групп 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indent="343080" algn="just">
              <a:lnSpc>
                <a:spcPct val="107000"/>
              </a:lnSpc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Malgun Gothic"/>
                <a:ea typeface="Times New Roman"/>
              </a:rPr>
              <a:t>План-график деятельности рабочей группы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308" name="Рисунок 7" descr=""/>
          <p:cNvPicPr/>
          <p:nvPr/>
        </p:nvPicPr>
        <p:blipFill>
          <a:blip r:embed="rId1"/>
          <a:srcRect l="14028" t="24409" r="10705" b="32283"/>
          <a:stretch/>
        </p:blipFill>
        <p:spPr>
          <a:xfrm>
            <a:off x="512640" y="2565360"/>
            <a:ext cx="8061480" cy="3327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1"/>
          <p:cNvSpPr/>
          <p:nvPr/>
        </p:nvSpPr>
        <p:spPr>
          <a:xfrm>
            <a:off x="2050920" y="404640"/>
            <a:ext cx="55454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lgun Gothic"/>
                <a:ea typeface="Times New Roman"/>
              </a:rPr>
              <a:t>Планируется утверждение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Рисунок 5" descr=""/>
          <p:cNvPicPr/>
          <p:nvPr/>
        </p:nvPicPr>
        <p:blipFill>
          <a:blip r:embed="rId1"/>
          <a:srcRect l="1096" t="5493" r="-1083" b="37365"/>
          <a:stretch/>
        </p:blipFill>
        <p:spPr>
          <a:xfrm>
            <a:off x="1476360" y="189000"/>
            <a:ext cx="6408720" cy="34430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"/>
          <p:cNvSpPr/>
          <p:nvPr/>
        </p:nvSpPr>
        <p:spPr>
          <a:xfrm>
            <a:off x="539640" y="3933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lgun Gothic"/>
              </a:rPr>
              <a:t>- </a:t>
            </a:r>
            <a:r>
              <a:rPr b="0" lang="ru-RU" sz="2400" spc="-1" strike="noStrike">
                <a:solidFill>
                  <a:srgbClr val="17375e"/>
                </a:solidFill>
                <a:latin typeface="Malgun Gothic"/>
              </a:rPr>
              <a:t>объективная,  персонифицированная процедура определения соответствия квалификации лица, получившего медицинское образование, требованиям к квалификации медицинского работника в соответствии с профессиональными стандартами.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оугольник 4"/>
          <p:cNvGrpSpPr/>
          <p:nvPr/>
        </p:nvGrpSpPr>
        <p:grpSpPr>
          <a:xfrm>
            <a:off x="324000" y="512640"/>
            <a:ext cx="8551800" cy="1090800"/>
            <a:chOff x="324000" y="512640"/>
            <a:chExt cx="8551800" cy="1090800"/>
          </a:xfrm>
        </p:grpSpPr>
        <p:pic>
          <p:nvPicPr>
            <p:cNvPr id="31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24000" y="512640"/>
              <a:ext cx="85518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84360" y="549360"/>
              <a:ext cx="817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Malgun Gothic"/>
                </a:rPr>
                <a:t>Показатели первичной специализированной аккредитации </a:t>
              </a:r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Malgun Gothic"/>
                </a:rPr>
                <a:t>в ГБУЗ МО МОНИКИ в 2019 году </a:t>
              </a:r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sp>
        <p:nvSpPr>
          <p:cNvPr id="315" name="TextBox 16"/>
          <p:cNvSpPr/>
          <p:nvPr/>
        </p:nvSpPr>
        <p:spPr>
          <a:xfrm>
            <a:off x="504720" y="1712880"/>
            <a:ext cx="28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Специальность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1066680" y="2327400"/>
            <a:ext cx="2266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Терап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1003320" y="2790720"/>
            <a:ext cx="2084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Кардиолог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Прямоугольник 8"/>
          <p:cNvSpPr/>
          <p:nvPr/>
        </p:nvSpPr>
        <p:spPr>
          <a:xfrm>
            <a:off x="1003320" y="3333600"/>
            <a:ext cx="1859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Невролог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928800" y="3903840"/>
            <a:ext cx="35798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Общая врачебная практика (семейная медицина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939960" y="4724280"/>
            <a:ext cx="17856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Онколог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1" name="Прямоугольник 12"/>
          <p:cNvSpPr/>
          <p:nvPr/>
        </p:nvSpPr>
        <p:spPr>
          <a:xfrm>
            <a:off x="903600" y="5310360"/>
            <a:ext cx="15141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 Gothic"/>
                <a:ea typeface="Calibri"/>
              </a:rPr>
              <a:t>Педиатр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Правая фигурная скобка 13"/>
          <p:cNvSpPr/>
          <p:nvPr/>
        </p:nvSpPr>
        <p:spPr>
          <a:xfrm>
            <a:off x="4648320" y="1832040"/>
            <a:ext cx="533160" cy="389736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3897360"/>
              <a:gd name="textAreaBottom" fmla="*/ 3883680 h 38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3"/>
                  <a:pt x="10800" y="246"/>
                </a:cubicBezTo>
                <a:lnTo>
                  <a:pt x="10800" y="10554"/>
                </a:lnTo>
                <a:cubicBezTo>
                  <a:pt x="10800" y="10677"/>
                  <a:pt x="16200" y="10800"/>
                  <a:pt x="21600" y="10800"/>
                </a:cubicBezTo>
                <a:cubicBezTo>
                  <a:pt x="16200" y="10800"/>
                  <a:pt x="10800" y="10923"/>
                  <a:pt x="10800" y="11046"/>
                </a:cubicBezTo>
                <a:lnTo>
                  <a:pt x="10800" y="21354"/>
                </a:lnTo>
                <a:cubicBezTo>
                  <a:pt x="10800" y="2147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Прямоугольник 14"/>
          <p:cNvSpPr/>
          <p:nvPr/>
        </p:nvSpPr>
        <p:spPr>
          <a:xfrm>
            <a:off x="5253120" y="2760840"/>
            <a:ext cx="36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72 выпускника 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грамм ординатуры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Прямоугольник 15"/>
          <p:cNvSpPr/>
          <p:nvPr/>
        </p:nvSpPr>
        <p:spPr>
          <a:xfrm>
            <a:off x="5181480" y="3759120"/>
            <a:ext cx="35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выпускников 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грамм профессиональной переподготовки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9" descr=""/>
          <p:cNvPicPr/>
          <p:nvPr/>
        </p:nvPicPr>
        <p:blipFill>
          <a:blip r:embed="rId1"/>
          <a:stretch/>
        </p:blipFill>
        <p:spPr>
          <a:xfrm>
            <a:off x="1486080" y="3211560"/>
            <a:ext cx="1750680" cy="13129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8" descr=""/>
          <p:cNvPicPr/>
          <p:nvPr/>
        </p:nvPicPr>
        <p:blipFill>
          <a:blip r:embed="rId2"/>
          <a:stretch/>
        </p:blipFill>
        <p:spPr>
          <a:xfrm>
            <a:off x="1617840" y="1800360"/>
            <a:ext cx="1012680" cy="1027080"/>
          </a:xfrm>
          <a:prstGeom prst="rect">
            <a:avLst/>
          </a:prstGeom>
          <a:ln w="0">
            <a:noFill/>
          </a:ln>
        </p:spPr>
      </p:pic>
      <p:grpSp>
        <p:nvGrpSpPr>
          <p:cNvPr id="327" name="Овал 5"/>
          <p:cNvGrpSpPr/>
          <p:nvPr/>
        </p:nvGrpSpPr>
        <p:grpSpPr>
          <a:xfrm>
            <a:off x="353880" y="1255680"/>
            <a:ext cx="1468440" cy="1249560"/>
            <a:chOff x="353880" y="1255680"/>
            <a:chExt cx="1468440" cy="1249560"/>
          </a:xfrm>
        </p:grpSpPr>
        <p:pic>
          <p:nvPicPr>
            <p:cNvPr id="328" name="Овал 5" descr=""/>
            <p:cNvPicPr/>
            <p:nvPr/>
          </p:nvPicPr>
          <p:blipFill>
            <a:blip r:embed="rId3"/>
            <a:stretch/>
          </p:blipFill>
          <p:spPr>
            <a:xfrm>
              <a:off x="353880" y="1255680"/>
              <a:ext cx="146844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11280" y="1452600"/>
              <a:ext cx="954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32523"/>
                  </a:solidFill>
                  <a:latin typeface="Sitka Smal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Malgun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32523"/>
                  </a:solidFill>
                  <a:latin typeface="Sitka Small"/>
                </a:rPr>
                <a:t>этап</a:t>
              </a:r>
              <a:endParaRPr b="0" lang="en-US" sz="2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330" name="Овал 6"/>
          <p:cNvGrpSpPr/>
          <p:nvPr/>
        </p:nvGrpSpPr>
        <p:grpSpPr>
          <a:xfrm>
            <a:off x="249120" y="3200400"/>
            <a:ext cx="1470240" cy="1249200"/>
            <a:chOff x="249120" y="3200400"/>
            <a:chExt cx="1470240" cy="1249200"/>
          </a:xfrm>
        </p:grpSpPr>
        <p:pic>
          <p:nvPicPr>
            <p:cNvPr id="331" name="Овал 6" descr=""/>
            <p:cNvPicPr/>
            <p:nvPr/>
          </p:nvPicPr>
          <p:blipFill>
            <a:blip r:embed="rId4"/>
            <a:stretch/>
          </p:blipFill>
          <p:spPr>
            <a:xfrm>
              <a:off x="249120" y="3200400"/>
              <a:ext cx="14702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07960" y="3397320"/>
              <a:ext cx="9540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32523"/>
                  </a:solidFill>
                  <a:latin typeface="Sitka Smal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Malgun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32523"/>
                  </a:solidFill>
                  <a:latin typeface="Sitka Small"/>
                </a:rPr>
                <a:t>этап</a:t>
              </a:r>
              <a:endParaRPr b="0" lang="en-US" sz="2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333" name="Овал 7"/>
          <p:cNvGrpSpPr/>
          <p:nvPr/>
        </p:nvGrpSpPr>
        <p:grpSpPr>
          <a:xfrm>
            <a:off x="249120" y="4780080"/>
            <a:ext cx="1470240" cy="1285920"/>
            <a:chOff x="249120" y="4780080"/>
            <a:chExt cx="1470240" cy="1285920"/>
          </a:xfrm>
        </p:grpSpPr>
        <p:pic>
          <p:nvPicPr>
            <p:cNvPr id="334" name="Овал 7" descr=""/>
            <p:cNvPicPr/>
            <p:nvPr/>
          </p:nvPicPr>
          <p:blipFill>
            <a:blip r:embed="rId5"/>
            <a:stretch/>
          </p:blipFill>
          <p:spPr>
            <a:xfrm>
              <a:off x="249120" y="4780080"/>
              <a:ext cx="14702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07960" y="4965840"/>
              <a:ext cx="9540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632523"/>
                  </a:solidFill>
                  <a:latin typeface="Sitka Small"/>
                </a:rPr>
                <a:t>3</a:t>
              </a:r>
              <a:r>
                <a:rPr b="0" lang="en-US" sz="3600" spc="-1" strike="noStrike">
                  <a:solidFill>
                    <a:srgbClr val="632523"/>
                  </a:solidFill>
                  <a:latin typeface="Malgun Gothic"/>
                </a:rPr>
                <a:t>  </a:t>
              </a:r>
              <a:r>
                <a:rPr b="0" lang="ru-RU" sz="2400" spc="-1" strike="noStrike">
                  <a:solidFill>
                    <a:srgbClr val="632523"/>
                  </a:solidFill>
                  <a:latin typeface="Sitka Small"/>
                </a:rPr>
                <a:t>этап</a:t>
              </a:r>
              <a:endParaRPr b="0" lang="en-US" sz="2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336" name="Рисунок 11" descr=""/>
          <p:cNvPicPr/>
          <p:nvPr/>
        </p:nvPicPr>
        <p:blipFill>
          <a:blip r:embed="rId6"/>
          <a:stretch/>
        </p:blipFill>
        <p:spPr>
          <a:xfrm>
            <a:off x="1574640" y="4656240"/>
            <a:ext cx="1271880" cy="12697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2"/>
          <p:cNvSpPr/>
          <p:nvPr/>
        </p:nvSpPr>
        <p:spPr>
          <a:xfrm>
            <a:off x="2811600" y="14526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32523"/>
                </a:solidFill>
                <a:latin typeface="Malgun Gothic"/>
              </a:rPr>
              <a:t>Тестирование</a:t>
            </a:r>
            <a:endParaRPr b="0" lang="en-US" sz="21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TextBox 13"/>
          <p:cNvSpPr/>
          <p:nvPr/>
        </p:nvSpPr>
        <p:spPr>
          <a:xfrm>
            <a:off x="3236760" y="3182760"/>
            <a:ext cx="58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Malgun Gothic"/>
              </a:rPr>
              <a:t>Оценка практических навыков (умений) в симулированных условиях и с использованием симуляционного оборудования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3840120" y="492120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Malgun Gothic"/>
              </a:rPr>
              <a:t>Решение  ситуационных задач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0" name="Стрелка вниз 16"/>
          <p:cNvSpPr/>
          <p:nvPr/>
        </p:nvSpPr>
        <p:spPr>
          <a:xfrm>
            <a:off x="585720" y="2689200"/>
            <a:ext cx="674640" cy="15408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1" name="Стрелка вниз 17"/>
          <p:cNvSpPr/>
          <p:nvPr/>
        </p:nvSpPr>
        <p:spPr>
          <a:xfrm>
            <a:off x="549360" y="4487760"/>
            <a:ext cx="674640" cy="15408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342" name="Скругленный прямоугольник 1"/>
          <p:cNvGrpSpPr/>
          <p:nvPr/>
        </p:nvGrpSpPr>
        <p:grpSpPr>
          <a:xfrm>
            <a:off x="469800" y="109440"/>
            <a:ext cx="8150400" cy="1506600"/>
            <a:chOff x="469800" y="109440"/>
            <a:chExt cx="8150400" cy="1506600"/>
          </a:xfrm>
        </p:grpSpPr>
        <p:pic>
          <p:nvPicPr>
            <p:cNvPr id="343" name="Скругленный прямоугольник 1" descr=""/>
            <p:cNvPicPr/>
            <p:nvPr/>
          </p:nvPicPr>
          <p:blipFill>
            <a:blip r:embed="rId7"/>
            <a:stretch/>
          </p:blipFill>
          <p:spPr>
            <a:xfrm>
              <a:off x="469800" y="109440"/>
              <a:ext cx="815040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878040" y="185760"/>
              <a:ext cx="76755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Malgun Gothic"/>
                </a:rPr>
                <a:t>Этапы первичной специализированной аккредитации</a:t>
              </a:r>
              <a:endParaRPr b="0" lang="en-US" sz="2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sp>
        <p:nvSpPr>
          <p:cNvPr id="345" name="Прямоугольник 2"/>
          <p:cNvSpPr/>
          <p:nvPr/>
        </p:nvSpPr>
        <p:spPr>
          <a:xfrm>
            <a:off x="2990880" y="1890720"/>
            <a:ext cx="58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algun Gothic"/>
              </a:rPr>
              <a:t>60 </a:t>
            </a:r>
            <a:r>
              <a:rPr b="1" lang="ru-RU" sz="1800" spc="-1" strike="noStrike">
                <a:solidFill>
                  <a:srgbClr val="215968"/>
                </a:solidFill>
                <a:latin typeface="Malgun Gothic"/>
              </a:rPr>
              <a:t>тестовых заданий 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Malgun Gothic"/>
              </a:rPr>
              <a:t>из Единой базы оценочных средств</a:t>
            </a: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2565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lgun Gothic"/>
                <a:ea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4" descr=""/>
          <p:cNvPicPr/>
          <p:nvPr/>
        </p:nvPicPr>
        <p:blipFill>
          <a:blip r:embed="rId1"/>
          <a:srcRect l="0" t="19071" r="7826" b="0"/>
          <a:stretch/>
        </p:blipFill>
        <p:spPr>
          <a:xfrm>
            <a:off x="395280" y="1916280"/>
            <a:ext cx="8340840" cy="47098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1126440" y="476280"/>
            <a:ext cx="59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algun Gothic"/>
              </a:rPr>
              <a:t>Профессиональный стандарт ? 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56502266.jpg"/>
          <p:cNvPicPr/>
          <p:nvPr/>
        </p:nvPicPr>
        <p:blipFill>
          <a:blip r:embed="rId1"/>
          <a:stretch/>
        </p:blipFill>
        <p:spPr>
          <a:xfrm>
            <a:off x="324000" y="1197000"/>
            <a:ext cx="3241440" cy="429732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3488040" y="673200"/>
            <a:ext cx="57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algun Gothic"/>
              </a:rPr>
              <a:t>Профессиональный стандарт 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33" name="Рисунок 8" descr=""/>
          <p:cNvPicPr/>
          <p:nvPr/>
        </p:nvPicPr>
        <p:blipFill>
          <a:blip r:embed="rId2"/>
          <a:srcRect l="5174" t="14562" r="30079" b="11609"/>
          <a:stretch/>
        </p:blipFill>
        <p:spPr>
          <a:xfrm>
            <a:off x="3863880" y="1596960"/>
            <a:ext cx="52801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4" descr=""/>
          <p:cNvPicPr/>
          <p:nvPr/>
        </p:nvPicPr>
        <p:blipFill>
          <a:blip r:embed="rId1"/>
          <a:srcRect l="48425" t="11150" r="17712" b="73100"/>
          <a:stretch/>
        </p:blipFill>
        <p:spPr>
          <a:xfrm>
            <a:off x="228600" y="2384280"/>
            <a:ext cx="3097080" cy="1079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2"/>
          <a:srcRect l="33463" t="25850" r="16925" b="62601"/>
          <a:stretch/>
        </p:blipFill>
        <p:spPr>
          <a:xfrm>
            <a:off x="0" y="3503520"/>
            <a:ext cx="3711600" cy="649440"/>
          </a:xfrm>
          <a:prstGeom prst="rect">
            <a:avLst/>
          </a:prstGeom>
          <a:ln w="0">
            <a:noFill/>
          </a:ln>
        </p:spPr>
      </p:pic>
      <p:grpSp>
        <p:nvGrpSpPr>
          <p:cNvPr id="236" name="TextBox 6"/>
          <p:cNvGrpSpPr/>
          <p:nvPr/>
        </p:nvGrpSpPr>
        <p:grpSpPr>
          <a:xfrm>
            <a:off x="4614840" y="2011320"/>
            <a:ext cx="4059360" cy="1474920"/>
            <a:chOff x="4614840" y="2011320"/>
            <a:chExt cx="4059360" cy="1474920"/>
          </a:xfrm>
        </p:grpSpPr>
        <p:pic>
          <p:nvPicPr>
            <p:cNvPr id="237" name="TextBox 6" descr=""/>
            <p:cNvPicPr/>
            <p:nvPr/>
          </p:nvPicPr>
          <p:blipFill>
            <a:blip r:embed="rId3"/>
            <a:stretch/>
          </p:blipFill>
          <p:spPr>
            <a:xfrm>
              <a:off x="4614840" y="2011320"/>
              <a:ext cx="405936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037120" y="2050920"/>
              <a:ext cx="3597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>
                <a:buClr>
                  <a:srgbClr val="000000"/>
                </a:buClr>
                <a:buFont typeface="Wingdings" charset="2"/>
                <a:buChar char=""/>
                <a:tabLst>
                  <a:tab algn="l" pos="53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Malgun Gothic"/>
                </a:rPr>
                <a:t>к результатам освоения основных образовательных программ</a:t>
              </a:r>
              <a:endParaRPr b="0" lang="en-US" sz="20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sp>
        <p:nvSpPr>
          <p:cNvPr id="239" name="Прямоугольник 8"/>
          <p:cNvSpPr/>
          <p:nvPr/>
        </p:nvSpPr>
        <p:spPr>
          <a:xfrm>
            <a:off x="513000" y="549360"/>
            <a:ext cx="82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Malgun Gothic"/>
              </a:rPr>
              <a:t>СОВОКУПНОСТЬ ТРЕХ СИСТЕМ ТРЕБОВАНИЙ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  <p:cxnSp>
        <p:nvCxnSpPr>
          <p:cNvPr id="240" name="Прямая со стрелкой 2"/>
          <p:cNvCxnSpPr>
            <a:stCxn id="235" idx="3"/>
          </p:cNvCxnSpPr>
          <p:nvPr/>
        </p:nvCxnSpPr>
        <p:spPr>
          <a:xfrm flipV="1">
            <a:off x="3711600" y="2707560"/>
            <a:ext cx="1077120" cy="1119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241" name="Прямоугольник 3"/>
          <p:cNvGrpSpPr/>
          <p:nvPr/>
        </p:nvGrpSpPr>
        <p:grpSpPr>
          <a:xfrm>
            <a:off x="4627440" y="3481560"/>
            <a:ext cx="4023000" cy="1096920"/>
            <a:chOff x="4627440" y="3481560"/>
            <a:chExt cx="4023000" cy="1096920"/>
          </a:xfrm>
        </p:grpSpPr>
        <p:pic>
          <p:nvPicPr>
            <p:cNvPr id="242" name="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4627440" y="3481560"/>
              <a:ext cx="40230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037120" y="3521160"/>
              <a:ext cx="35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>
                <a:buClr>
                  <a:srgbClr val="000000"/>
                </a:buClr>
                <a:buFont typeface="Wingdings" charset="2"/>
                <a:buChar char=""/>
                <a:tabLst>
                  <a:tab algn="l" pos="53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Malgun Gothic"/>
                </a:rPr>
                <a:t>к структуре основных образовательных программ</a:t>
              </a:r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44" name="Прямоугольник 9"/>
          <p:cNvGrpSpPr/>
          <p:nvPr/>
        </p:nvGrpSpPr>
        <p:grpSpPr>
          <a:xfrm>
            <a:off x="4627440" y="4591080"/>
            <a:ext cx="4010040" cy="1919160"/>
            <a:chOff x="4627440" y="4591080"/>
            <a:chExt cx="4010040" cy="1919160"/>
          </a:xfrm>
        </p:grpSpPr>
        <p:pic>
          <p:nvPicPr>
            <p:cNvPr id="245" name="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4627440" y="4591080"/>
              <a:ext cx="40100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037120" y="4630680"/>
              <a:ext cx="3586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>
                <a:buClr>
                  <a:srgbClr val="000000"/>
                </a:buClr>
                <a:buFont typeface="Wingdings" charset="2"/>
                <a:buChar char=""/>
                <a:tabLst>
                  <a:tab algn="l" pos="53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Malgun Gothic"/>
                </a:rPr>
                <a:t>к условиям реализации основных образовательных программ (кадровым, финансовым, материально-техническим и иным)</a:t>
              </a:r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cxnSp>
        <p:nvCxnSpPr>
          <p:cNvPr id="247" name="Прямая со стрелкой 11"/>
          <p:cNvCxnSpPr/>
          <p:nvPr/>
        </p:nvCxnSpPr>
        <p:spPr>
          <a:xfrm>
            <a:off x="3711600" y="3846240"/>
            <a:ext cx="1210320" cy="43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8" name="Прямая со стрелкой 15"/>
          <p:cNvCxnSpPr>
            <a:stCxn id="235" idx="3"/>
          </p:cNvCxnSpPr>
          <p:nvPr/>
        </p:nvCxnSpPr>
        <p:spPr>
          <a:xfrm>
            <a:off x="3711600" y="3827520"/>
            <a:ext cx="932400" cy="1186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4"/>
          <p:cNvSpPr/>
          <p:nvPr/>
        </p:nvSpPr>
        <p:spPr>
          <a:xfrm>
            <a:off x="200160" y="692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algun Gothic"/>
              </a:rPr>
              <a:t>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50" name="Рисунок 5" descr=""/>
          <p:cNvPicPr/>
          <p:nvPr/>
        </p:nvPicPr>
        <p:blipFill>
          <a:blip r:embed="rId1"/>
          <a:srcRect l="69371" t="29331" r="1298" b="34252"/>
          <a:stretch/>
        </p:blipFill>
        <p:spPr>
          <a:xfrm>
            <a:off x="214200" y="2100240"/>
            <a:ext cx="357840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"/>
          <p:cNvPicPr/>
          <p:nvPr/>
        </p:nvPicPr>
        <p:blipFill>
          <a:blip r:embed="rId2"/>
          <a:srcRect l="69924" t="43110" r="0" b="17520"/>
          <a:stretch/>
        </p:blipFill>
        <p:spPr>
          <a:xfrm>
            <a:off x="4519440" y="2100240"/>
            <a:ext cx="4500720" cy="33130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8"/>
          <p:cNvSpPr/>
          <p:nvPr/>
        </p:nvSpPr>
        <p:spPr>
          <a:xfrm>
            <a:off x="4716360" y="14778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algun Gothic"/>
              </a:rPr>
              <a:t>Основные компоненты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1"/>
          <p:cNvSpPr/>
          <p:nvPr/>
        </p:nvSpPr>
        <p:spPr>
          <a:xfrm>
            <a:off x="3564000" y="2276640"/>
            <a:ext cx="54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Malgun Gothic"/>
                <a:ea typeface="Calibri"/>
              </a:rPr>
              <a:t>«Формирование требований ФГОС  к результатам освоения основных образовательных программ в части профессиональной компетенции осуществляется на основе соответствующих профессиональных стандартов 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Malgun Gothic"/>
                <a:ea typeface="Calibri"/>
              </a:rPr>
              <a:t>(при наличии)»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54" name="Рисунок 1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931840" cy="443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55" name="TextBox 13" descr=""/>
          <p:cNvPicPr/>
          <p:nvPr/>
        </p:nvPicPr>
        <p:blipFill>
          <a:blip r:embed="rId2"/>
          <a:stretch/>
        </p:blipFill>
        <p:spPr>
          <a:xfrm>
            <a:off x="-189000" y="-19080"/>
            <a:ext cx="90154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4" descr=""/>
          <p:cNvPicPr/>
          <p:nvPr/>
        </p:nvPicPr>
        <p:blipFill>
          <a:blip r:embed="rId1"/>
          <a:srcRect l="44466" t="30315" r="1298" b="18504"/>
          <a:stretch/>
        </p:blipFill>
        <p:spPr>
          <a:xfrm>
            <a:off x="353880" y="627120"/>
            <a:ext cx="6950160" cy="3725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5"/>
          <p:cNvSpPr/>
          <p:nvPr/>
        </p:nvSpPr>
        <p:spPr>
          <a:xfrm>
            <a:off x="324000" y="115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algun Gothic"/>
              </a:rPr>
              <a:t>ФГОС ВО </a:t>
            </a:r>
            <a:r>
              <a:rPr b="1" lang="en-US" sz="2400" spc="-1" strike="noStrike">
                <a:solidFill>
                  <a:srgbClr val="17375e"/>
                </a:solidFill>
                <a:latin typeface="Malgun Gothic"/>
              </a:rPr>
              <a:t>III</a:t>
            </a:r>
            <a:r>
              <a:rPr b="1" lang="ru-RU" sz="2400" spc="-1" strike="noStrike">
                <a:solidFill>
                  <a:srgbClr val="17375e"/>
                </a:solidFill>
                <a:latin typeface="Malgun Gothic"/>
              </a:rPr>
              <a:t>++ ОСОБЕННОСТИ И НОВЫЕ ПОНЯТИЯ</a:t>
            </a:r>
            <a:endParaRPr b="0" lang="en-US" sz="24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58" name="Рисунок 6" descr=""/>
          <p:cNvPicPr/>
          <p:nvPr/>
        </p:nvPicPr>
        <p:blipFill>
          <a:blip r:embed="rId2"/>
          <a:srcRect l="45573" t="37205" r="1298" b="56747"/>
          <a:stretch/>
        </p:blipFill>
        <p:spPr>
          <a:xfrm>
            <a:off x="249120" y="4352760"/>
            <a:ext cx="7097760" cy="4431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7" descr=""/>
          <p:cNvPicPr/>
          <p:nvPr/>
        </p:nvPicPr>
        <p:blipFill>
          <a:blip r:embed="rId3"/>
          <a:srcRect l="46126" t="23425" r="3514" b="61206"/>
          <a:stretch/>
        </p:blipFill>
        <p:spPr>
          <a:xfrm>
            <a:off x="453960" y="4795920"/>
            <a:ext cx="6892920" cy="1125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"/>
          <p:cNvPicPr/>
          <p:nvPr/>
        </p:nvPicPr>
        <p:blipFill>
          <a:blip r:embed="rId4"/>
          <a:srcRect l="48896" t="62800" r="6831" b="28346"/>
          <a:stretch/>
        </p:blipFill>
        <p:spPr>
          <a:xfrm>
            <a:off x="279360" y="5921280"/>
            <a:ext cx="70675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6"/>
          <p:cNvSpPr/>
          <p:nvPr/>
        </p:nvSpPr>
        <p:spPr>
          <a:xfrm>
            <a:off x="119160" y="189000"/>
            <a:ext cx="89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Malgun Gothic"/>
              </a:rPr>
              <a:t>Формирование обязательной части и части, формируемой участниками образовательных отношений, на основе результативного компонента ОПОП 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rcRect l="30632" t="19488" r="30632" b="42126"/>
          <a:stretch/>
        </p:blipFill>
        <p:spPr>
          <a:xfrm>
            <a:off x="0" y="1484280"/>
            <a:ext cx="90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"/>
          <p:cNvPicPr/>
          <p:nvPr/>
        </p:nvPicPr>
        <p:blipFill>
          <a:blip r:embed="rId1"/>
          <a:srcRect l="19006" t="30315" r="21222" b="35236"/>
          <a:stretch/>
        </p:blipFill>
        <p:spPr>
          <a:xfrm>
            <a:off x="185760" y="1197000"/>
            <a:ext cx="8785080" cy="3168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5"/>
          <p:cNvSpPr/>
          <p:nvPr/>
        </p:nvSpPr>
        <p:spPr>
          <a:xfrm>
            <a:off x="40176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Malgun Gothic"/>
              </a:rPr>
              <a:t>Индикаторы достижения компетенций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84280" y="4702320"/>
          <a:ext cx="8121600" cy="892080"/>
        </p:xfrm>
        <a:graphic>
          <a:graphicData uri="http://schemas.openxmlformats.org/drawingml/2006/table">
            <a:tbl>
              <a:tblPr/>
              <a:tblGrid>
                <a:gridCol w="2030400"/>
                <a:gridCol w="2030400"/>
                <a:gridCol w="2030400"/>
                <a:gridCol w="2030400"/>
              </a:tblGrid>
              <a:tr h="366120"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Malgun Gothic"/>
                        </a:rPr>
                        <a:t>Компе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7375e"/>
                          </a:solidFill>
                          <a:latin typeface="Malgun Gothic"/>
                        </a:rPr>
                        <a:t>Индикаторы достижения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algun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35:38Z</dcterms:created>
  <dc:creator>Registered User</dc:creator>
  <dc:description/>
  <dc:language>en-US</dc:language>
  <cp:lastModifiedBy>Dekan</cp:lastModifiedBy>
  <cp:lastPrinted>2019-02-20T07:10:43Z</cp:lastPrinted>
  <dcterms:modified xsi:type="dcterms:W3CDTF">2019-02-20T09:15:22Z</dcterms:modified>
  <cp:revision>104</cp:revision>
  <dc:subject/>
  <dc:title>PowerPoint Presentation</dc:title>
</cp:coreProperties>
</file>